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F23-1A20-4564-9973-43D50FEF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145-6518-49DC-B5A2-EBE14696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EDEF-D5AE-4F2F-B56B-338934EB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3EA-106D-427F-B779-47B1670E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22B9-B43C-4E56-8952-151A4F24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AE99-4A94-42E8-B063-C65A75F4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AE07-8F8B-40D0-89FC-A27300EE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C8E6-A44A-45D4-9AED-5B16DCA3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95A1-B997-4655-ABBF-5AD42520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CEAD-6367-4927-8B26-FE6BE647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7482-AD06-41CF-8A7B-C1FC59D2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D69-ACD5-43DC-BA77-4524D7A3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30A4-CF17-4184-9B39-C6D2C82F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785A-97C8-4FF6-B9D6-F4C438FD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0CB2-80CA-4B6D-9156-DA359709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ED83-36E0-47E3-B2F6-E66F3899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595B-3A48-4F45-864A-5354AEE1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AF2-7236-4314-9C49-EEB1C3EC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FCF-FB7A-4DB1-AE2B-34C28E29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E29B-0C31-4909-A160-B69FA7C7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BD8-F99F-4CA5-A0B0-CBD58E63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027-D31C-4D77-8D1D-6C629726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26E-5B52-4E3A-AF6D-9D07B54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036-61D1-43F6-9CA6-465244DB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23E9-6834-4662-8910-CCA4A95810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A3B-6495-4E15-871E-4ED6E6F728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dic.ru/hie/2648/" TargetMode="External"/><Relationship Id="rId3" Type="http://schemas.openxmlformats.org/officeDocument/2006/relationships/hyperlink" Target="http://www.edudic.ru/hie/2648/" TargetMode="External"/><Relationship Id="rId4" Type="http://schemas.openxmlformats.org/officeDocument/2006/relationships/hyperlink" Target="http://www.edudic.ru/hie/2648/" TargetMode="External"/><Relationship Id="rId5" Type="http://schemas.openxmlformats.org/officeDocument/2006/relationships/hyperlink" Target="http://505days.com/" TargetMode="External"/><Relationship Id="rId6" Type="http://schemas.openxmlformats.org/officeDocument/2006/relationships/hyperlink" Target="http://www.xumuk.ru/" TargetMode="External"/><Relationship Id="rId7" Type="http://schemas.openxmlformats.org/officeDocument/2006/relationships/hyperlink" Target="http://ru.wikipedia.org/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Bookman Old Style"/>
              </a:rPr>
              <a:t>Количественный анализ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en-US" sz="40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0" lang="en-US" sz="4000" spc="-1" strike="noStrike">
                <a:solidFill>
                  <a:srgbClr val="336699"/>
                </a:solidFill>
                <a:latin typeface="Bookman Old Style"/>
              </a:rPr>
              <a:t>химия</a:t>
            </a:r>
            <a:r>
              <a:rPr b="0" lang="en-US" sz="40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Источники: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://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www.edudic.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505day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xumuk.r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ru.wikipedia.or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32000" y="2060640"/>
            <a:ext cx="63356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налити́ческая хи́мия —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аздел химии, изучающий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химический соста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структуру вещест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Предмет её как науки —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совершенствовани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существующих и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разработка 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новых методов анализ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их </a:t>
            </a:r>
            <a:r>
              <a:rPr b="0" lang="en-US" sz="3000" spc="-1" strike="noStrike">
                <a:solidFill>
                  <a:srgbClr val="cc0000"/>
                </a:solidFill>
                <a:latin typeface="Times New Roman"/>
              </a:rPr>
              <a:t>практическое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применени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 u="sng">
                <a:solidFill>
                  <a:srgbClr val="cc0000"/>
                </a:solidFill>
                <a:uFillTx/>
                <a:latin typeface="Times New Roman"/>
              </a:rPr>
              <a:t>исследовани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теоретических основ аналитических метод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Аналитическая хим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качественный                       количестве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336699"/>
                </a:solidFill>
                <a:latin typeface="Times New Roman"/>
              </a:rPr>
              <a:t>анализ                                    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щества,                         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кольк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элементов, ионов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молекулярных форм и др.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ходятся в образце)                                      находится в образц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элементный   молекулярный    фазов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анализ             анализ              анали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  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изотопный         органических вещест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                                             </a:t>
            </a:r>
            <a:r>
              <a:rPr b="0" lang="ru-RU" sz="1800" spc="-1" strike="noStrike">
                <a:solidFill>
                  <a:srgbClr val="336699"/>
                </a:solidFill>
                <a:latin typeface="Verdana"/>
              </a:rPr>
              <a:t>анализ                          анали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6699"/>
                </a:solidFill>
                <a:latin typeface="Verdana"/>
              </a:rPr>
              <a:t>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3860640"/>
            <a:ext cx="0" cy="432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908000" y="1413000"/>
            <a:ext cx="93528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1413000"/>
            <a:ext cx="1079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2000" y="3860640"/>
            <a:ext cx="0" cy="432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8720" y="3860640"/>
            <a:ext cx="0" cy="1297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148000" y="3716280"/>
            <a:ext cx="360360" cy="144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84360" y="3716280"/>
            <a:ext cx="863640" cy="649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количественного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еделение количественного содержания отдельных составных частей в исследуемом веществе или в смес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езультаты количественного определения выражают обычно в процентах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Методика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, или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алгоритм проведения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оличественного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бор и подготовка пробы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ведение анализируемой части пробы в состояние, удобное для анализ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буждение и измерение аналит. сигнала - физ. величины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оптич. плотности, интенсивности спектральной линии, высоты полярографич. волны, скорости счета импульсов в заданном канале гамма-спектрометра и т.д.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рреляционно связанной с содержанием определяемого компонент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роение градуировочной характеристики, описывающей эту связ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поправки контрольного опыта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 результата единичного определени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 результата анализа путем усреднения результатов единичных определений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Методы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количественного анализ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"/>
              </a:rPr>
              <a:t>химические          физико-химическ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равиметрический                  фотометр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итриметрический                нефелометр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газовый                              электрохимическ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пектраль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95280" y="1773360"/>
            <a:ext cx="108108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92720" y="1700280"/>
            <a:ext cx="1150920" cy="72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2924280"/>
            <a:ext cx="0" cy="792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2924280"/>
            <a:ext cx="0" cy="792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Методы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  количественного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Классическим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етодами количественного анализа являются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равиметрический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весово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анализ – определение количества компонента (элемента или иона) по массе вещества, полученного в результате анализ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итриметрический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объемны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анализ – основан на точном измерении количества реактива затраченного на реакцию с определяемым клмпонент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ьшинство методов количественного анализа относятся к </a:t>
            </a:r>
            <a:r>
              <a:rPr b="1" i="1" lang="ru-RU" sz="2600" spc="-1" strike="noStrike">
                <a:solidFill>
                  <a:srgbClr val="336699"/>
                </a:solidFill>
                <a:latin typeface="Times New Roman"/>
              </a:rPr>
              <a:t>сравнительны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(относительным), в которых градуировочную характеристику строят с использованием образцов сравнен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ьшое значение имеют метрологические характеристики - закон распределения результатов параллельных определений, границы интервала определяемых содержаний, воспроизводимость, правильность, погрешности анализ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Тенденция развития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количественного анализа -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* дальнейшая 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Times New Roman"/>
              </a:rPr>
              <a:t>автоматизац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с применением компьютеров и </a:t>
            </a:r>
            <a:r>
              <a:rPr b="0" lang="ru-RU" sz="3000" spc="-1" strike="noStrike" u="sng">
                <a:solidFill>
                  <a:srgbClr val="336699"/>
                </a:solidFill>
                <a:uFillTx/>
                <a:latin typeface="Times New Roman"/>
              </a:rPr>
              <a:t>внедрение физических методов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, отличающихся экспрессностью, хорошими метрологическими характеристиками, высокой разрешающей способностью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* такими методами можно определять одновременно несколько компонен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5:34:09Z</dcterms:created>
  <dc:creator>Admin</dc:creator>
  <dc:description/>
  <dc:language>en-US</dc:language>
  <cp:lastModifiedBy>Пользователь</cp:lastModifiedBy>
  <dcterms:modified xsi:type="dcterms:W3CDTF">2012-06-28T08:09:50Z</dcterms:modified>
  <cp:revision>4</cp:revision>
  <dc:subject/>
  <dc:title>Количественный анализ                (химия)</dc:title>
</cp:coreProperties>
</file>